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495F-B7B9-4D61-BE26-561F0D50A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750B-62A2-4BA7-97FA-6CC6E8AF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DE4F-5EDB-4EBA-B42B-82B644884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1E7B-1251-4943-8587-7691AE8BE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2247-98B4-4B0B-BFBA-52501E98E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90AB8-3520-44DE-A8A1-E9BC77DD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C8C9-7486-46A2-941C-BDC27F6A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8F6F8-1E8F-4D94-85FC-70AC06FC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724F-4C9C-4F5E-A029-660AE1AA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6ADF6-3E9A-4859-A9AB-0509E0FC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16D7F-2007-4D3C-BD51-A73CEC16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7BF8-5964-4D87-B01A-1D3C1947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106D-ECEF-4487-8A0A-02E4DCAD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50CA9-58D1-4213-B119-9FFD9EA7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C69E1-4D89-45D3-BAA9-B0B9653D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25927-34F2-4B28-9E3E-8E708E25A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A0DA-28B0-4313-992A-B21BBBF2A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BAAC-F564-4036-83BE-209785D8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2665-EE04-45A8-9BEA-4ECD306D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A02D-0230-4850-9295-66E1D098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B825-F287-4117-9839-EA142309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B47F-E962-47A8-AED9-E4E92F93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C6CA-574D-4D14-A669-ABFA542A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1577-9F3B-4BB5-8DCF-4EC39B6D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3884-A585-4E44-B8A6-0449ACCFE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E25B-A104-400A-9CEC-A47843DA0E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se-Control Stud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deep Deshmuk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fess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 Sushila Nayar School of Public Heal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GIMS, Sewa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ROGRESSION OF STUDY DESIGN: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MMUNITY RESEARC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logical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ss-Sectional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-Control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hort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domized Community T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a-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ipid - Atherosclerosis Assoc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Lipid - Atherosclerosis Associ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nalysis of 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Death Rates from CAD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according to 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per capita fat consumption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in 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20 countries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Hypothesis of L-A association.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S Studies: Framingham and Evans County Heart Studies (Dawber et al 1971, Cassel 1971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ase-Control Studies confirmed Associatio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hort Studies (Truett et al 1967, Tyroler et al 1971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mmunity Based Controlled Trials of Lipid Reduction (Lipid Research Clinics Program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usation/causal assoc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teria to be fulfill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ength of association &amp; effect of ces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ity of assoc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stency of assoc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logical plau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herence of assoc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The setting of case-control research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Clinic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chanisms of Disease Caus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Commun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ation Health Impact of Expo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cision to conduct case-control researc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haracteristics of the exposure and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urrent state of knowledge: Relation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mmediate goals of the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search set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source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earch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OC use associated with MI in wom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current IUD use associated with PI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OC use associated with the risk of breast canc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ge at first coitus associated with cervical canc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legal abortion associated with placenta previa in a later pregnanc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O ARE CAS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ith a Specific Outcom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ence of Disease / Syndrom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lications / progression of Disease (Severe dehydration cris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ath (Neonatal mortalit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um cholesterol / Birth weig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layed Immun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rly Initiation of Cigarette Smo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verse Reactions of Drugs / Vaccines (SID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havior (Juvenile Delinquenc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ug Resistance (MDR-T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ple as a case (Infertilit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lection of cases (Definition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iagnostic Crite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isk of Disease Misclassif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inuous / Discrete Outcome 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latively simple &amp; straightforward: Children with cleft palates (physical examin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metimes difficult: Hyperten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gnosis: Combination of methods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tionale / Logi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eria Specif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erational versus Rig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 Definition (WHO, CDC,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erence (growth references – NCHS, CDC, New W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lection of cases (definition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ligibility Criter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lusion/Exclusion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-Co studies should be limited t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inciden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es (Sackett 1979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osures are presumably more recent and therefore more reliably recall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atively homogeneous gro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lusion of prevalent cases: Minimize the Selection Bias (Neyman Fallacy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: PID and IUD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me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who are not sexually acti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r who hav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had a tubal lig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not likely to have recently used any contraceptive method including IU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se defin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87488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ptual 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esity defined as body fat percentag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&gt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33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rational 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dy Mass Index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&gt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se definition: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e definition should avoid misclass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: Sinha et al (200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emia was defined as Hemoglobin &lt; 110 gm/L as measured by WHO Colour Sc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Colour Scale over-estimates the hemoglob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sclassified cases with mild ane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o, studying mild forms of cases, gives larger case group; but misclassifies cases as non-cases OR non-cases as case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 early diagnosis is generally imprec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se definition: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evere case definition may exclude people who have been cured or who died of disease before the condition was severe enough to be labelled as c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/consensus definitions if available, must be u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heumatoid arthritis – Rome criteria, NY criteria, 1987 ARC crite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bolic Syndrome – ATP III, IDRF, and so 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agreement over definition may introduce variability in estimates of eff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se definition: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ssues of severity, diagnostic criteria and subjectivity of criteria all lead to potential problems of misclassification of c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searcher can choose between more restrictive and inclusive defin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in terms of sensitivity and specificity of definition and its effect on validity, sample size, precision and p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enner and Savitz (1990) reported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trictive definition (less sensitive) leads to lack of precision and power by reducing sample s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oad criteria (less specificity) produce misclassification leading to biased measure of eff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, weigh validity - specificity over sensitivity (Restrictive definition over inclusive defini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Sources of cases (Research Setting)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spitals (Multi-Centric Studi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ustrial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ication of cases: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oal is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sure that all true cases have an equal probability of entering the study and that no false cases en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Conceptual definition of HI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tors affecting decision to test/access the test and Sn &amp; Sp of test will decide who eventually becomes a case under operational defin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ection bias 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i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ion b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equal chance of getting into stu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rkson’s bi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ble rate of hospitalization affecting case se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yman fall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ident case Vs prevalent c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ction b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closer medical attention, detection of endometrial cancer was more in a group using estro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lection of Contro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ntrols should come from the population at risk of the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 can not be controls for a gynecological cond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trols should be “eligible for the exposur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ntrols should have same exposure rate as that of the population from where the cases are dra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chlder’s four principles for selection of contro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udy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rce of case and the control should be the s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onfou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able accur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ilar misclassification errors in cases &amp; contr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otential of recall bias in cases &amp;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ici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 of Contro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pital or clinic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ad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s with similar dise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er or case-nominated (friend/neighbor)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ation contr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spital contro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ily available hence commonly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 reasons to use hospital controls 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select controls whose referral pattern is similar to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obtain similar quality of exa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conven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not be representative of the po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finition…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ase-control study is 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nalytic epidemiologic resear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sign in which the study populatio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sists of group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o either hav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(cases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 do not have a particular health problem or outcom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(controls)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vestigator look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ack in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measu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posur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the study subjects. The exposure is the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ar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mong cases and controls to determine if the exposu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uld accou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the health condition of the ca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ad contro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ght use dead controls for dead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some situations, this might lead to use of surrogate inform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blem is the dead control is not representative of the living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cLaughlin compared dead controls with living controls and noticed that the dead controls smoked more cigarettes and consumed more alcohol than living contr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priateness depends on the exposure being stud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rols with similar dise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s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minimize the recall b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minimize the interviewer b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xamine the specificity of an exposure for a particular type of canc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“practical” but unspecified rea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 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er or case-nominated (friend/neighbor) contro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ighborhood controls is used in two way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refer to community or population contr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refer to controls selected from finite number of close neighb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arch starts from house of the case and door-to-door search conducted for eligible controls in a standardized patte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iend or neighbor control is a surrogate for matching on age, SES, education, e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quick way to find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as is introduced if determinants of friendship are associated with disease or expo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iends share many risk behavi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pulation contro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domly drawn from po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ly representative of po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 way of selecting contr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ally, very difficult to carry 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y base 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ere to select controls from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 the pros and c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ze the situation for bias being introduc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possibl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different sources of controls and compare with each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the inferences dra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tio of control to case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istical consid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number of subjects available in one group (cases) is limited, an increase in the other group increases the study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in in power is till the ratio of 4: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after, the gain is not substantial but cost incr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study of power with equal allocation is as high as 0.9 or as low as 0.1, additional fails to increase the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idity of in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when there is no statistical need, more than one control may be recruited per c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rolling two or more types of controls is a way of checking for biases introduced by choice of control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measure of effect is similar when comparing cases with each control group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ably – no biases (no sure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different measure of effect, then the bias is there and the researcher can understand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tio of control to case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09480" y="609480"/>
            <a:ext cx="7848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TCHING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pose: To adjust - effects of relevant confoun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ching in Design - Accounted in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isconcept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goal is to make the case and control groups similar in all respects, except for disease stat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ptimal Matching Sche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volves only thos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variabl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improv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tatistical efficienc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liminate bi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rom the effect of inter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33520" y="304920"/>
            <a:ext cx="7924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TCHING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hich variables are appropriate for match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 factors from prior work may be identified for mat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ching by interviewer or hospital may be used to balance out the effects of interviewer and observer err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best to limit matching to basic descriptors (age, race, sex,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modifiable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few matching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3520" y="609480"/>
            <a:ext cx="7924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TCHING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Overzealous matching may have adverse effect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atching on a strong correlate of the exposure, which is not an independent risk factor for the outcome (overmatching) may lead to an underestimate of OR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atching may lead to a false sense of security that a particular variable is adequately controlle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YNONYM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e-Re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e-Compe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ple siz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i_info 6.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asurement of Expos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nai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version tables/algorith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asurement of expos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na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comprehe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tion retriev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onse formulation and recor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of exposure reports may be influenced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of respon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ministration of questionna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lience of expo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y in which information is retrie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ys in which responses are formulated and recor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asurement of expos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traction of data from rec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control measures are import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eful design and testing of abstraction 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and supervision of abstr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ori definition of te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ations of rules for handling conflicting or missing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asurement of expos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version tables/algorith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obtain more specific exposure measure from questionnaire or rec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in use now-a-days for dietary and occupational var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 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a case-control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ssoci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of tests of signific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imation of Odds ratio and its confidence 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ributable risk esti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sts of signific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matched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ched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nary exposure without covari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68360" y="1484280"/>
          <a:ext cx="8291520" cy="1886040"/>
        </p:xfrm>
        <a:graphic>
          <a:graphicData uri="http://schemas.openxmlformats.org/drawingml/2006/table">
            <a:tbl>
              <a:tblPr/>
              <a:tblGrid>
                <a:gridCol w="2073240"/>
                <a:gridCol w="2073240"/>
                <a:gridCol w="2071800"/>
                <a:gridCol w="2073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169e1"/>
                          </a:solidFill>
                          <a:latin typeface="Arial"/>
                        </a:rPr>
                        <a:t>Exposure to fum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6f0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169e1"/>
                          </a:solidFill>
                          <a:latin typeface="Arial"/>
                        </a:rPr>
                        <a:t>Headache pres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6f0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169e1"/>
                          </a:solidFill>
                          <a:latin typeface="Arial"/>
                        </a:rPr>
                        <a:t>Headache abs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6f0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169e1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6f0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tor pres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=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=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+b= 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tor abs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=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=8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+d= 9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+c=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+d=9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=1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3500280"/>
            <a:ext cx="8229600" cy="25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= ad/b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(OR) = 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qrt (1/a+1/b+1/c+1/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 = OR exp (± Z 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-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/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qrt (1/a+1/b+1/c+1/d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racterist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servational / Non-experimen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casionally Explora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natory (Analytic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 to 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 Exposure &amp; Disease have already occur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Comparison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nary exposure and categorical covari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874520"/>
            <a:ext cx="82296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ified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OR for each str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tel-Haenszel summary odds ratio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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= ------------------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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istic regr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nary exposure with continuous covari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der height as covariate in a study where exposure is diabetes and outcome is 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of stratified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ge number of str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of these strata will have zero frequ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 limited number of categories – loss of some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istic regression – misclassifying the functional form of relationship between covariate and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inuous exposure without covari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vide the exposure variable in small number of categ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quint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istic regr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for assessing dose-respon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inuous exposure with covari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egorize the expo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H estim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ression techniq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tched dat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57200" y="1484280"/>
          <a:ext cx="8218440" cy="1897200"/>
        </p:xfrm>
        <a:graphic>
          <a:graphicData uri="http://schemas.openxmlformats.org/drawingml/2006/table">
            <a:tbl>
              <a:tblPr/>
              <a:tblGrid>
                <a:gridCol w="2054160"/>
                <a:gridCol w="2055960"/>
                <a:gridCol w="2054160"/>
                <a:gridCol w="20541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169e1"/>
                          </a:solidFill>
                          <a:latin typeface="Arial"/>
                        </a:rPr>
                        <a:t>Exposure to fum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6f0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169e1"/>
                          </a:solidFill>
                          <a:latin typeface="Arial"/>
                        </a:rPr>
                        <a:t>Headache pres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6f0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169e1"/>
                          </a:solidFill>
                          <a:latin typeface="Arial"/>
                        </a:rPr>
                        <a:t>Headache abs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6f0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169e1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6f0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tor pres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+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tor abs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+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+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+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+B+C+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3573360"/>
            <a:ext cx="8229600" cy="28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,B,C,D are number of pa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= B/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(OR) = e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qrt (1/B+1/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 = OR exp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(± Z 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-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/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qrt (1/B+1/C)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ociation by McNemar’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(B-C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(B+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ression = Conditional reg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533520" y="380880"/>
            <a:ext cx="7924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PRE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1430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=1, OR&lt;1, OR&gt;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62120" y="1676520"/>
            <a:ext cx="7848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Rang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pre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.0 - 0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ong Benef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.4 - 0.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ate Benef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.6 - 0.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k Benef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.9 - 1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Eff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2 - 1.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k Haz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7 - 2.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ate Haz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 2.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ong Hazar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2480" y="1600200"/>
            <a:ext cx="7848720" cy="426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218916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96880" y="270828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8960" y="322884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6360" y="374796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6880" y="424656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4280" y="476568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92200" y="529272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952880" y="1600200"/>
            <a:ext cx="0" cy="4267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dentification of confounding variab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istically testing for association of potential confounder with disease and with expo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“crude OR” differs from “adjusted OR” by a specified percentage points (15 or less), then the variable is regarded as confou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ttributable risk esti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so known 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iologic f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ss f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pulation attributable risk perc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s an estimate of proportion of cases that are related to a given expo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fraction of disease in population that might be avoided by eliminating the exposure to an etiologic ag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takes number of exposed individuals in the population into acc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s important information for public health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609480"/>
            <a:ext cx="8153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RP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1676520"/>
            <a:ext cx="807696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P = (OR-1)/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portion of total disease risk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posed pers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ich may be attributed to their expos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&gt; 1, ARP Range: 0 - 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= 1, ARP =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OR is very large, much of the total disease risk in exposed persons may result from that exposu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33520" y="609480"/>
            <a:ext cx="8153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ARP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1600200"/>
            <a:ext cx="80769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ts val="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e and MacMahon (1971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P = [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OR-1)] / [1+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OR-1)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ylor (1977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P = 1-[b(c+d) /d(a+b)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sponds to the proportion of disease risk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ll pers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ich may be attributed to the exposure under investig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y case-control design for study of rare diseas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ome rare disease say some cancer (leukemi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2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ude Annual Incidence = 3.4/100000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&lt; 15 yea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2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hort Study: A year of observation on a million children to identify 34 c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2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ple of 34 cases: Sub-divided in 2 or more exposure catego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2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bout conducting case-control desig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57200" y="609480"/>
            <a:ext cx="8001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1523880"/>
            <a:ext cx="82296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auterine Irradiation &amp; Childhood Lukaem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= 1.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P = (1.48 -1) / 1.48 = 0.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third of lukaemia in the irradiated children may be attributed in part to prenatal irradia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P=1-[70 (45+155) / 155(30+70)]=1-0.90= 0.10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% of all childhood lukaemia may be attributed in part to intrauterine irradia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…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826920" y="1844640"/>
          <a:ext cx="7283520" cy="3714840"/>
        </p:xfrm>
        <a:graphic>
          <a:graphicData uri="http://schemas.openxmlformats.org/drawingml/2006/table">
            <a:tbl>
              <a:tblPr/>
              <a:tblGrid>
                <a:gridCol w="1820880"/>
                <a:gridCol w="1820880"/>
                <a:gridCol w="1820880"/>
                <a:gridCol w="1820880"/>
              </a:tblGrid>
              <a:tr h="928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H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9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F die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F die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9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80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7812000" y="6308640"/>
          <a:ext cx="874800" cy="500040"/>
        </p:xfrm>
        <a:graphic>
          <a:graphicData uri="http://schemas.openxmlformats.org/drawingml/2006/table">
            <a:tbl>
              <a:tblPr/>
              <a:tblGrid>
                <a:gridCol w="352440"/>
                <a:gridCol w="216000"/>
                <a:gridCol w="306360"/>
              </a:tblGrid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.2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4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.1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ratified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57200" y="1874880"/>
          <a:ext cx="8362800" cy="3930480"/>
        </p:xfrm>
        <a:graphic>
          <a:graphicData uri="http://schemas.openxmlformats.org/drawingml/2006/table">
            <a:tbl>
              <a:tblPr/>
              <a:tblGrid>
                <a:gridCol w="1673280"/>
                <a:gridCol w="1673280"/>
                <a:gridCol w="1670040"/>
                <a:gridCol w="1673280"/>
                <a:gridCol w="1672920"/>
              </a:tblGrid>
              <a:tr h="560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H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F die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F die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ema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F die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F die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7667640" y="5945040"/>
          <a:ext cx="906480" cy="912960"/>
        </p:xfrm>
        <a:graphic>
          <a:graphicData uri="http://schemas.openxmlformats.org/drawingml/2006/table">
            <a:tbl>
              <a:tblPr/>
              <a:tblGrid>
                <a:gridCol w="453960"/>
                <a:gridCol w="452520"/>
              </a:tblGrid>
              <a:tr h="185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48</a:t>
                      </a:r>
                      <a:endParaRPr b="0" lang="en-US" sz="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03</a:t>
                      </a:r>
                      <a:endParaRPr b="0" lang="en-US" sz="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04</a:t>
                      </a:r>
                      <a:endParaRPr b="0" lang="en-US" sz="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.00</a:t>
                      </a:r>
                      <a:endParaRPr b="0" lang="en-US" sz="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.28</a:t>
                      </a:r>
                      <a:endParaRPr b="0" lang="en-US" sz="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.39</a:t>
                      </a:r>
                      <a:endParaRPr b="0" lang="en-US" sz="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92</a:t>
                      </a:r>
                      <a:endParaRPr b="0" lang="en-US" sz="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ercise on matched data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ercise using epi_inf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i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sclass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differen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ou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80880" y="685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SELECTION BIA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1295280"/>
            <a:ext cx="80010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rkson’s Parad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yman Fall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ive Refer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ction B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Respo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ngth of Hospital Stay B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vival B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57200" y="6858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RKSON’S PARADO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1295280"/>
            <a:ext cx="80010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rkson (194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ospital samples may systematically differ from general populations because of factors which influence the likelihood of hospitaliz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ospital samples may exhibit spurious associations between two variables, even though these variables are independently distributed in the general popul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457200" y="6858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RKSON’S PARADO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1295280"/>
            <a:ext cx="80010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oberts &amp; Co-workers(197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iratory and bone dis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(General Population): 1.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(Hospital Sample): 4.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orted medication-diseases associ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xative use and arthritic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(General Population): 1.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(Hospital Sample): 5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457200" y="6858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RKSON’S PARADO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1295280"/>
            <a:ext cx="80010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alter(1980): Minim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xposure is not a direct cause of hospitaliz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ase and control populations are mutually exclus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80880" y="68580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EYMAN FALLAC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1295280"/>
            <a:ext cx="81532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yman (195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alent Cases: Distorted E-D Associ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exposure is related to Disease Progno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Sex &amp; Colorectal Canc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&gt;I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Devesa &amp; Silverman 197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Longer (Koch et al 198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ple of Prevalent Cases : Prop. Of 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ization: Incident cases (Schesselman 198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se-Control Studies for 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Diseases having long induction 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tageous: Long induction period between the exposure and clinical onset of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hort Study: Waiting years for accrual of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-Control Study: Compress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-Control Studies: Chronic Diseases (Cancer / Cardiovascular Diseas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09480" y="609480"/>
            <a:ext cx="7848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LECTIVE REFERR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1295280"/>
            <a:ext cx="78487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cases within the population are differentially reported to study hospit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tiary Care Hospital: Complicated/Severe D Which may differ etiologically from other ca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3886200"/>
            <a:ext cx="7924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N-RESPON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4572000"/>
            <a:ext cx="7924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enrolled subjects systematically differ from non-participa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e: Comparability of participants &amp; non-participa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533520" y="609480"/>
            <a:ext cx="7924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TECTION BI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1295280"/>
            <a:ext cx="7772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f exposure influences the likelihood of clinical recognition of the diseas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x: Exogenous Oestrogen- Endometrial Canc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ts val="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-DA may be partially attributed to preferential detection of D in exposed wome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 -&gt; Dysfunctional Bleeding -&gt; Intra-abdominal Diagnostic Examination -&gt; Diagnosis of an Asymptomatic D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aCo Studies should attempt to evaluate the extent to which exposure brings an otherwise asymptomatic cases to clinical detectio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33520" y="609480"/>
            <a:ext cx="7924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NGTH OF HOSPITAL STAY B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1295280"/>
            <a:ext cx="7772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cases are selected from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gistry of current hospital patie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then cases who have been hospitalized for the longest period of time have a higher probability of being selected than cases admitted for minor conditions or cases who d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cases may have other diseases and conditions that may be related to the disease or exposure under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533520" y="609480"/>
            <a:ext cx="7924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RVIVAL BI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1295280"/>
            <a:ext cx="7772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only the survivors of the outcome are selected as cases and if survival is related to the exposure of inte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533520" y="609480"/>
            <a:ext cx="7924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ISCLASSIFICATION BI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33520" y="1523880"/>
            <a:ext cx="79246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n-Differential Misclassification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rrors in classification of one variable (E) 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depend on the level of the other variable (D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DM Errors :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fferential Misclassification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rrors in classification of one variable (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end on the level of the other variable (D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M Errors: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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DM ERRO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1752480"/>
            <a:ext cx="77724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posure Specific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E is not accurately asses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acceptability Bi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E is a behaviour or characteristic which subjects are inclined to under-repo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533520" y="533520"/>
            <a:ext cx="7924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M ERRO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990720"/>
            <a:ext cx="7848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all (Anamnestic Bi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opathic B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view B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38080" y="28195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3505320"/>
            <a:ext cx="78483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858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990720"/>
            <a:ext cx="7848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3520" y="304920"/>
            <a:ext cx="7696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FOUNDING BI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" y="1447920"/>
            <a:ext cx="78487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study effect is mixed with another effec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ounder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raneous to E-D assoc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ive of 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equally distributed between E grou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Alcohol &amp; Oesophageal Canc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ounder: Smo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 - CL - MG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: Design /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858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371600"/>
            <a:ext cx="78487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 to carry 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id (less time consum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exp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ful for rare dis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ful for diseases with a long latent inter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risk to su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ple exposures can be stud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attrition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33520" y="76212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VANT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1447920"/>
            <a:ext cx="78487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858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1371600"/>
            <a:ext cx="78487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sceptible for bi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ion of controls difficu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idence (thereby RR) can not be calcu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disease is relatively common (&gt; 5 to 10%), OR may not be reliable estimate of R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possible effects of exposure can not be stud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 Vs Assoc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457200"/>
            <a:ext cx="7696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SADVANT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447920"/>
            <a:ext cx="78487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ase-control studies in hierarchy of desig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CT: Methodological Standard of Excell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-Co - Not only SIMPLE to perform but some times the ONLY approach to solve a problem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ilosophically no design is ‘Gold Standard’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stand strengths and weaknesses 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appropriate study design to address your RQ……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533520" y="609480"/>
            <a:ext cx="7924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1523880"/>
            <a:ext cx="79246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ing Vaccine Effective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ions of Treatment &amp; Program Effic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ion of Scree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break Investig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rect Estimation in Demograp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tic Epidem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pational Health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ive Mode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rogression of study design: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nical researc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solated Case Repor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ase Seri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ross-Sectional stud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ase-Control Stud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hort Stud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andomized Clinical Tria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eta-Analysi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ts val="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01:39:07Z</dcterms:created>
  <dc:creator> </dc:creator>
  <dc:description/>
  <dc:language>en-US</dc:language>
  <cp:lastModifiedBy>Pradeep Deshmukh</cp:lastModifiedBy>
  <dcterms:modified xsi:type="dcterms:W3CDTF">2008-12-03T03:01:09Z</dcterms:modified>
  <cp:revision>73</cp:revision>
  <dc:subject/>
  <dc:title>Slide 1</dc:title>
</cp:coreProperties>
</file>